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C51-42A7-4EC6-938D-CB22B847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75517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34800" y="4172760"/>
            <a:ext cx="75517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4D7-98BB-45A6-945E-7BAA099F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3480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0444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68F-4DC9-44C3-8A41-5449EF7F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8280" y="158400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1760" y="158400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34800" y="417276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8280" y="417276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1760" y="417276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CEA1-F183-488C-B6CF-84099EE8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35EF-0E6D-4A56-8832-66E09797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9BB4-5345-418B-9D7C-9AA33078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CAAB-E1BA-42D5-BFCE-AA02A189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9C2B-9E5A-424D-A383-56B717FE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2913-D34D-4465-A644-8EEDFF58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61920" y="137880"/>
            <a:ext cx="7826400" cy="63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15AE-1951-4080-8578-C92DC7D1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3480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D940-121E-4CB4-A52E-ECE2E86F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873-B3D5-44DB-8726-9CC6B988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0444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6B61-773E-4CF8-866E-56140669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34800" y="4172760"/>
            <a:ext cx="75517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B774-9883-45F9-AE30-576F1B19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75517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34800" y="4172760"/>
            <a:ext cx="75517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20CF-40A2-48D1-9BD0-06B0D517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3480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0444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8C87-6278-48ED-B52A-792D4650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88280" y="158400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1760" y="158400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34800" y="417276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88280" y="417276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1760" y="4172760"/>
            <a:ext cx="24314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DDDD-CA38-4B62-8568-149E8A11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E75-2401-455E-AC42-065CDBB7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8A0-6289-494A-9BFB-61887EF0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294A-0605-4E04-B6B6-B592CAED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61920" y="137880"/>
            <a:ext cx="7826400" cy="63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CE82-451B-42C3-A8FF-0C69F013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3480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836-F079-4652-8707-C32AD059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04440" y="417276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B7E-2891-47F2-83D5-0D2B63F2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4440" y="1584000"/>
            <a:ext cx="36849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34800" y="4172760"/>
            <a:ext cx="75517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044-06CF-4CAD-BD06-874D7A50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8" descr="C:\Documents and Settings\Rami\Desktop\Ramis Work\PresPro\Templates_07_July_2004\Biotech\JPGS\PPP_SBIOT_TXT_DNA_Struc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6440" y="6624720"/>
            <a:ext cx="190512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57200" y="6624720"/>
            <a:ext cx="289404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70760" y="6624720"/>
            <a:ext cx="1905120" cy="2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B37C-A29C-4021-A6AD-38FFA33EA507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3" descr="C:\Documents and Settings\Rami\Desktop\Ramis Work\PresPro\Templates_07_July_2004\Biotech\JPGS\PPP_SBIOT_TLE_DNA_Struc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9360">
            <a:solidFill>
              <a:srgbClr val="339966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706800"/>
            <a:ext cx="1905120" cy="1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92400"/>
            <a:ext cx="2895840" cy="1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92400"/>
            <a:ext cx="1905120" cy="1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076E-77B6-483C-B02F-0AD54FF888D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668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LOGAREA PE ORACLE APEX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dresa server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ttp://iacademy.oracle.co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2637000"/>
            <a:ext cx="6553080" cy="0"/>
          </a:xfrm>
          <a:prstGeom prst="line">
            <a:avLst/>
          </a:prstGeom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Completati datele de identificar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19280" y="1434960"/>
            <a:ext cx="6481800" cy="5062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56000" y="3860640"/>
            <a:ext cx="792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348000" y="3645000"/>
            <a:ext cx="244800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414828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414972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392640" y="4149720"/>
            <a:ext cx="2403360" cy="157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29080" y="4437000"/>
            <a:ext cx="647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37880"/>
            <a:ext cx="78264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34800" y="1584000"/>
            <a:ext cx="75517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473800" cy="2679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>
            <a:off x="4932000" y="2708280"/>
            <a:ext cx="863640" cy="9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7:15:22Z</dcterms:created>
  <dc:creator>Tomsa.Gelu</dc:creator>
  <dc:description/>
  <cp:keywords/>
  <dc:language>en-US</dc:language>
  <cp:lastModifiedBy>Tomsa.Gelu</cp:lastModifiedBy>
  <dcterms:modified xsi:type="dcterms:W3CDTF">2010-11-23T09:08:35Z</dcterms:modified>
  <cp:revision>2</cp:revision>
  <dc:subject/>
  <dc:title>LOGAREA PE ORACLE APE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081033</vt:lpwstr>
  </property>
</Properties>
</file>